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021-3496-491D-AF4F-4A43ABFC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8F5-AEBF-4152-AF46-A5B35AEA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1F3-8BBD-4CDC-B917-2D9BF4FA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9220-8A07-43EB-B2F8-C023ED1B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E8FC-47C2-4F84-8C26-20BF647C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E67-7C6B-4DF0-BE76-CD14CCED1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6EA-D88F-4E73-94BB-02623B94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C5F-7BF9-41EE-A8F7-505BC1E2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11CE-76A8-4DA8-AA1E-6D81FF03C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RedWhiteBlue&amp;RibbonLeftWhiteRight"/>
          <p:cNvPicPr/>
          <p:nvPr/>
        </p:nvPicPr>
        <p:blipFill>
          <a:blip r:embed="rId2"/>
          <a:srcRect l="0" t="0" r="94180" b="0"/>
          <a:stretch/>
        </p:blipFill>
        <p:spPr>
          <a:xfrm>
            <a:off x="0" y="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RedWhiteBlue&amp;RibbonLeftWhiteRight"/>
          <p:cNvPicPr/>
          <p:nvPr/>
        </p:nvPicPr>
        <p:blipFill>
          <a:blip r:embed="rId3"/>
          <a:srcRect l="0" t="0" r="94180" b="0"/>
          <a:stretch/>
        </p:blipFill>
        <p:spPr>
          <a:xfrm>
            <a:off x="0" y="16765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RedWhiteBlue&amp;RibbonLeftWhiteRight"/>
          <p:cNvPicPr/>
          <p:nvPr/>
        </p:nvPicPr>
        <p:blipFill>
          <a:blip r:embed="rId4"/>
          <a:srcRect l="0" t="0" r="94180" b="0"/>
          <a:stretch/>
        </p:blipFill>
        <p:spPr>
          <a:xfrm>
            <a:off x="0" y="335268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RedWhiteBlue&amp;RibbonLeftWhiteRight"/>
          <p:cNvPicPr/>
          <p:nvPr/>
        </p:nvPicPr>
        <p:blipFill>
          <a:blip r:embed="rId5"/>
          <a:srcRect l="0" t="0" r="94180" b="0"/>
          <a:stretch/>
        </p:blipFill>
        <p:spPr>
          <a:xfrm>
            <a:off x="0" y="41911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RedWhiteBlue&amp;RibbonLeftWhiteRight"/>
          <p:cNvPicPr/>
          <p:nvPr/>
        </p:nvPicPr>
        <p:blipFill>
          <a:blip r:embed="rId6"/>
          <a:srcRect l="0" t="0" r="94180" b="0"/>
          <a:stretch/>
        </p:blipFill>
        <p:spPr>
          <a:xfrm>
            <a:off x="0" y="516240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RedWhiteBlue&amp;RibbonLeftWhiteRight"/>
          <p:cNvPicPr/>
          <p:nvPr/>
        </p:nvPicPr>
        <p:blipFill>
          <a:blip r:embed="rId7"/>
          <a:srcRect l="94180" t="0" r="0" b="0"/>
          <a:stretch/>
        </p:blipFill>
        <p:spPr>
          <a:xfrm>
            <a:off x="8534520" y="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RedWhiteBlue&amp;RibbonLeftWhiteRight"/>
          <p:cNvPicPr/>
          <p:nvPr/>
        </p:nvPicPr>
        <p:blipFill>
          <a:blip r:embed="rId8"/>
          <a:srcRect l="94180" t="0" r="0" b="0"/>
          <a:stretch/>
        </p:blipFill>
        <p:spPr>
          <a:xfrm>
            <a:off x="8534520" y="16765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RedWhiteBlue&amp;RibbonLeftWhiteRight"/>
          <p:cNvPicPr/>
          <p:nvPr/>
        </p:nvPicPr>
        <p:blipFill>
          <a:blip r:embed="rId9"/>
          <a:srcRect l="94180" t="0" r="0" b="0"/>
          <a:stretch/>
        </p:blipFill>
        <p:spPr>
          <a:xfrm>
            <a:off x="8534520" y="335268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RedWhiteBlue&amp;RibbonLeftWhiteRight"/>
          <p:cNvPicPr/>
          <p:nvPr/>
        </p:nvPicPr>
        <p:blipFill>
          <a:blip r:embed="rId10"/>
          <a:srcRect l="94180" t="0" r="0" b="0"/>
          <a:stretch/>
        </p:blipFill>
        <p:spPr>
          <a:xfrm>
            <a:off x="8534520" y="41911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6" descr="RedWhiteBlue&amp;RibbonLeftWhiteRight"/>
          <p:cNvPicPr/>
          <p:nvPr/>
        </p:nvPicPr>
        <p:blipFill>
          <a:blip r:embed="rId11"/>
          <a:srcRect l="94180" t="0" r="0" b="0"/>
          <a:stretch/>
        </p:blipFill>
        <p:spPr>
          <a:xfrm>
            <a:off x="8534520" y="516240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7" descr="franceo"/>
          <p:cNvPicPr/>
          <p:nvPr/>
        </p:nvPicPr>
        <p:blipFill>
          <a:blip r:embed="rId12"/>
          <a:stretch/>
        </p:blipFill>
        <p:spPr>
          <a:xfrm>
            <a:off x="1523880" y="1941480"/>
            <a:ext cx="6248520" cy="362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214280" y="838080"/>
            <a:ext cx="6853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c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17819" dir="2700000" blurRad="0" rotWithShape="0">
                    <a:srgbClr val="000099">
                      <a:alpha val="75000"/>
                    </a:srgbClr>
                  </a:outerShdw>
                </a:effectLst>
                <a:latin typeface="Edwardian Script ITC"/>
              </a:rPr>
              <a:t>The French Revolution</a:t>
            </a:r>
            <a:endParaRPr b="0" lang="en-US" sz="2400" spc="1" strike="noStrike">
              <a:ln w="12600">
                <a:solidFill>
                  <a:srgbClr val="ec0000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17819" dir="2700000" blurRad="0" rotWithShape="0">
                  <a:srgbClr val="000099">
                    <a:alpha val="75000"/>
                  </a:srgbClr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c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17819" dir="2700000" blurRad="0" rotWithShape="0">
                    <a:srgbClr val="000099">
                      <a:alpha val="75000"/>
                    </a:srgbClr>
                  </a:outerShdw>
                </a:effectLst>
                <a:latin typeface="Edwardian Script ITC"/>
              </a:rPr>
              <a:t>"Conservative" Phase:</a:t>
            </a:r>
            <a:endParaRPr b="0" lang="en-US" sz="2400" spc="1" strike="noStrike">
              <a:ln w="12600">
                <a:solidFill>
                  <a:srgbClr val="ec0000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17819" dir="2700000" blurRad="0" rotWithShape="0">
                  <a:srgbClr val="000099">
                    <a:alpha val="75000"/>
                  </a:srgbClr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c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17819" dir="2700000" blurRad="0" rotWithShape="0">
                    <a:srgbClr val="000099">
                      <a:alpha val="75000"/>
                    </a:srgbClr>
                  </a:outerShdw>
                </a:effectLst>
                <a:latin typeface="Edwardian Script ITC"/>
              </a:rPr>
              <a:t>1795-1799</a:t>
            </a:r>
            <a:endParaRPr b="0" lang="en-US" sz="2400" spc="1" strike="noStrike">
              <a:ln w="12600">
                <a:solidFill>
                  <a:srgbClr val="ec0000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17819" dir="2700000" blurRad="0" rotWithShape="0">
                  <a:srgbClr val="000099">
                    <a:alpha val="75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pic>
        <p:nvPicPr>
          <p:cNvPr id="55" name="Picture 3" descr="Image6"/>
          <p:cNvPicPr/>
          <p:nvPr/>
        </p:nvPicPr>
        <p:blipFill>
          <a:blip r:embed="rId1"/>
          <a:stretch/>
        </p:blipFill>
        <p:spPr>
          <a:xfrm>
            <a:off x="7305840" y="4038480"/>
            <a:ext cx="847440" cy="9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mage6"/>
          <p:cNvPicPr/>
          <p:nvPr/>
        </p:nvPicPr>
        <p:blipFill>
          <a:blip r:embed="rId2"/>
          <a:stretch/>
        </p:blipFill>
        <p:spPr>
          <a:xfrm>
            <a:off x="1285920" y="4038480"/>
            <a:ext cx="847800" cy="943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752480" y="5578560"/>
            <a:ext cx="571500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424"/>
                </a:solidFill>
                <a:latin typeface="BilboDisplay"/>
              </a:rPr>
              <a:t>By:  Susan M. Pojer</a:t>
            </a:r>
            <a:br>
              <a:rPr sz="2400"/>
            </a:br>
            <a:r>
              <a:rPr b="1" lang="en-US" sz="2400" spc="-1" strike="noStrike">
                <a:solidFill>
                  <a:srgbClr val="c20424"/>
                </a:solidFill>
                <a:latin typeface="BilboDisplay"/>
              </a:rPr>
              <a:t>&amp; Ms. Gr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62120" y="312840"/>
            <a:ext cx="7772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BlackChancery"/>
              </a:rPr>
              <a:t>Revolt of Prairial, Year III</a:t>
            </a: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 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BlackChancery"/>
              </a:rPr>
              <a:t>(May 20, 17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Revolt of Prairial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98880" y="1676520"/>
            <a:ext cx="3149640" cy="479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62120" y="76320"/>
            <a:ext cx="76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Constitution of the Year III </a:t>
            </a:r>
            <a:r>
              <a:rPr b="1" lang="en-US" sz="3200" spc="-1" strike="noStrike">
                <a:solidFill>
                  <a:srgbClr val="000000"/>
                </a:solidFill>
                <a:latin typeface="BlackChancery"/>
              </a:rPr>
              <a:t>(17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143000" y="1359000"/>
            <a:ext cx="70102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tive, monarchist vi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ions are null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tial law is im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s the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rect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nstitutionalized the </a:t>
            </a:r>
            <a:r>
              <a:rPr b="1" lang="en-US" sz="2400" spc="-1" strike="noStrike">
                <a:solidFill>
                  <a:srgbClr val="ec0000"/>
                </a:solidFill>
                <a:latin typeface="Comic Sans MS"/>
              </a:rPr>
              <a:t>Thermidorian Rea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5-man executive committee or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oligarchy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. [avoid a dictatorship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n Assembly would be elected by limited suffr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dc00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moderates found it difficult to mediate between die-hard royalists and radical Jacob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74320" y="228600"/>
            <a:ext cx="8721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BlackChancery"/>
              </a:rPr>
              <a:t>Characteristics of the Director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447920" y="1241280"/>
            <a:ext cx="678168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Paris Commune was outlaw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Law of 22 Prairial was revok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eople involved in the original Terror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re now attacke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ff3300"/>
                </a:solidFill>
                <a:latin typeface="Comic Sans MS"/>
              </a:rPr>
              <a:t>“White” Terr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flation continu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ule by rich bourgeois liber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elf-indulgence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frivolous culture;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alons return; wild fash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litical corrup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vival of Catholicis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304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Political Instability:  </a:t>
            </a:r>
            <a:r>
              <a:rPr b="1" lang="en-US" sz="3600" spc="-1" strike="noStrike">
                <a:solidFill>
                  <a:srgbClr val="000000"/>
                </a:solidFill>
                <a:latin typeface="BlackChancery"/>
              </a:rPr>
              <a:t>1795-17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95280" y="1433520"/>
            <a:ext cx="685800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ril, 1795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nflation; bread rio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ctober, 1795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Revolt of the r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dé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Brittany revol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litary suppres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24"/>
              </a:spcBef>
              <a:buClr>
                <a:srgbClr val="dc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y, 1796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irs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“communist” revo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Gracchus Babeuf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spiracy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f Equa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abeuf"/>
          <p:cNvPicPr/>
          <p:nvPr/>
        </p:nvPicPr>
        <p:blipFill>
          <a:blip r:embed="rId1"/>
          <a:srcRect l="0" t="0" r="5086" b="0"/>
          <a:stretch/>
        </p:blipFill>
        <p:spPr>
          <a:xfrm>
            <a:off x="5867280" y="3429000"/>
            <a:ext cx="16765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41280" y="228600"/>
            <a:ext cx="678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18 Brumaire </a:t>
            </a:r>
            <a:r>
              <a:rPr b="1" lang="en-US" sz="3600" spc="-1" strike="noStrike">
                <a:solidFill>
                  <a:srgbClr val="000000"/>
                </a:solidFill>
                <a:latin typeface="BlackChancery"/>
              </a:rPr>
              <a:t>(Nov. 9, 179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1752480"/>
            <a:ext cx="289584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SzPct val="10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mic Sans MS"/>
              </a:rPr>
              <a:t>Coup d’</a:t>
            </a:r>
            <a:r>
              <a:rPr b="0" i="1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i="1" lang="en-US" sz="2300" spc="-1" strike="noStrike">
                <a:solidFill>
                  <a:srgbClr val="000000"/>
                </a:solidFill>
                <a:latin typeface="Comic Sans MS"/>
              </a:rPr>
              <a:t>tat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by Napole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SzPct val="10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pproved by a plebiscite in Decemb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SzPct val="10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bbe Sieyes: </a:t>
            </a:r>
            <a:r>
              <a:rPr b="1" i="1" lang="en-US" sz="2300" spc="-1" strike="noStrike">
                <a:solidFill>
                  <a:srgbClr val="000099"/>
                </a:solidFill>
                <a:latin typeface="Comic Sans MS"/>
              </a:rPr>
              <a:t>Confidence from below; authority from above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8th of Brumair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733920" y="1295280"/>
            <a:ext cx="4601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90720" y="228600"/>
            <a:ext cx="726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A British Cartoon about Napoleon’s Coup in 17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Br cartoon depicting Napoleon's coup"/>
          <p:cNvPicPr/>
          <p:nvPr/>
        </p:nvPicPr>
        <p:blipFill>
          <a:blip r:embed="rId1"/>
          <a:stretch/>
        </p:blipFill>
        <p:spPr>
          <a:xfrm>
            <a:off x="1523880" y="1905120"/>
            <a:ext cx="624852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-19080" y="239760"/>
            <a:ext cx="92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Read More About the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ah_faculty_schama_book_cilg"/>
          <p:cNvPicPr/>
          <p:nvPr/>
        </p:nvPicPr>
        <p:blipFill>
          <a:blip r:embed="rId1"/>
          <a:stretch/>
        </p:blipFill>
        <p:spPr>
          <a:xfrm>
            <a:off x="2743200" y="1143000"/>
            <a:ext cx="37195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77320" y="387360"/>
            <a:ext cx="5659560" cy="642600"/>
          </a:xfrm>
          <a:prstGeom prst="rect">
            <a:avLst/>
          </a:prstGeom>
          <a:solidFill>
            <a:srgbClr val="ec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lackChancery"/>
              </a:rPr>
              <a:t>Bibliographic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90720" y="1371600"/>
            <a:ext cx="72388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t210—Europe in the Age of Revolutions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ucl.ac.uk/history/courses/europe1/chron/rch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berty, Fraternity, Equality:  Exploring the French Revolution.”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chnm.gmu.edu/revolu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thews, Andrew.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volution and  Reaction: Europe, 1789-184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Cambrid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versity Press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apoleonic Guide.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napoleonguide.com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16:19Z</dcterms:created>
  <dc:creator>Susan M. Pojer</dc:creator>
  <dc:description/>
  <dc:language>en-US</dc:language>
  <cp:lastModifiedBy>Sue Gregory</cp:lastModifiedBy>
  <dcterms:modified xsi:type="dcterms:W3CDTF">2009-01-20T07:13:09Z</dcterms:modified>
  <cp:revision>9</cp:revision>
  <dc:subject/>
  <dc:title>Slide 1</dc:title>
</cp:coreProperties>
</file>